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D5B-A749-47C7-B727-5555CD17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DB9-0611-4AB9-AC04-B4F86BDE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7E7-B6D6-45BE-8DF8-3815A9A7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D27-D5E8-4DB3-BF95-398BEDA8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442A-5F1E-427C-B9E6-9953086B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78C4-C079-4E5A-9BF7-1F939157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2A1-0333-4ECC-B572-8E2CF477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5156-0C94-4BA8-8E1A-E909102E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641D-3DAE-461C-992A-E275C3BC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B6D5-9DA9-4A3F-902E-B2539F65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887E-D89B-41BA-8487-DD7CCA7F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4BC-8C85-4F1E-8D97-DF8211E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9DD3-4174-466C-8DFA-8F3E96CC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CAC2-4CBF-4BF9-947B-AF25FC2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C693-3CAE-416A-BCBC-6F0CDE54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56E-14D4-4F38-BE34-8821E0FE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2E69-9CA6-40C0-ACF2-26F0485B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E9E-61C1-409B-888D-548D731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775-B16D-4591-B329-E4CC2491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877-8742-4A3E-8CA3-45989B58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B5E-8B0F-41A6-9DB3-2E992C9B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EB0-0D8B-4496-B824-8D1FB29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6B7-845D-4EE6-8D4E-A0FFA44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DE4-E429-4AC4-9728-AA771F5F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B9F7-4BB4-4680-B8B7-7FF38AE11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541-F1DB-4280-9C12-CD8AB024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0996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Pronouns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24080" y="20574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665ac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8"/>
                </a:solidFill>
                <a:latin typeface="Impact"/>
              </a:rPr>
              <a:t>Choose one pronoun to finish each sentence.</a:t>
            </a:r>
            <a:endParaRPr b="0" lang="en-US" sz="40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Mom, Dad and ____ have a garden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Working in the garden is fun for ___</a:t>
            </a:r>
            <a:r>
              <a:rPr b="0" lang="en-US" sz="2800" spc="-1" strike="noStrike" u="sng">
                <a:solidFill>
                  <a:srgbClr val="000048"/>
                </a:solidFill>
                <a:uFillTx/>
                <a:latin typeface="Arial"/>
              </a:rPr>
              <a:t>_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ad helps _____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48"/>
                </a:solidFill>
                <a:uFillTx/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igs holes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48"/>
                </a:solidFill>
                <a:uFillTx/>
                <a:latin typeface="Arial"/>
              </a:rPr>
              <a:t>_____</a:t>
            </a: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water the garden.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25520" y="1319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868720" y="22860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35680" y="43434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364480" y="327672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06360" y="5334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8"/>
                </a:solidFill>
                <a:latin typeface="Impact"/>
              </a:rPr>
              <a:t>Choose one pronoun to finish the sentence.</a:t>
            </a:r>
            <a:endParaRPr b="0" lang="en-US" sz="40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The sun shines on ______.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ometimes _______rains.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oon _______will see plants.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_____ plant seeds.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954320" y="15238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582720" y="26668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440080" y="38862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44440" y="5105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3:34:42Z</dcterms:created>
  <dc:creator>prussell</dc:creator>
  <dc:description/>
  <dc:language>en-US</dc:language>
  <cp:lastModifiedBy>teacher</cp:lastModifiedBy>
  <dcterms:modified xsi:type="dcterms:W3CDTF">2011-02-07T01:14:56Z</dcterms:modified>
  <cp:revision>5</cp:revision>
  <dc:subject/>
  <dc:title>Pronouns</dc:title>
</cp:coreProperties>
</file>